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7ECE5-B36A-4019-952D-ECC8B1D5033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FDF40-E560-498F-B9E8-8D157C51BE0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29F12-0E4C-497E-824E-8B5E309EB2D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B602E-324F-46E9-B645-AFEF1C9911A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753CE-E394-4523-9FB5-53EF564CE12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E453F-A258-4007-9DD9-86A4745691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BED2B-B96B-47A7-8981-24AD98D2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D31A6-B200-414D-8209-8F063BAD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47C51-1D8E-4EF4-B0E6-EE35A486AD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2151E-E036-43E5-BC5C-9EABECD8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D5D4F-99FA-4B51-8987-A1507C8D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89797-C3F6-4C2D-93B4-1898C6A4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D3018-040C-4D15-A971-8AC26FFE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6E558-316F-4B3C-A5B0-8642DF2C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30BF1-7198-4DE7-99E5-98CCECE0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FD59C-CE42-408A-9144-086A2A18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41B9E-8B05-4796-A955-53DE7E7B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5F5B8B-CB55-4C6C-B24C-43744351EFBC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EL CICLO DEL AG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ciclo del ag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7199280" cy="324036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7"/>
          <p:cNvSpPr/>
          <p:nvPr/>
        </p:nvSpPr>
        <p:spPr>
          <a:xfrm>
            <a:off x="1800360" y="3610080"/>
            <a:ext cx="179280" cy="17928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598920" y="3610080"/>
            <a:ext cx="179280" cy="17928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5580000" y="3286080"/>
            <a:ext cx="179280" cy="17928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4319640" y="2529000"/>
            <a:ext cx="179280" cy="17928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6480000" y="2709720"/>
            <a:ext cx="179640" cy="17964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>
            <a:off x="4859280" y="2889360"/>
            <a:ext cx="179280" cy="17928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5759280" y="4329000"/>
            <a:ext cx="179640" cy="17964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3025800" y="4183200"/>
            <a:ext cx="179280" cy="17928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971640" y="1557360"/>
            <a:ext cx="2195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energía solar,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 calentar la Tierra, evapora el agua superficial. El vapor de agua asciende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 el aire calien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3851280" y="1341360"/>
            <a:ext cx="22334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vapor se condensa, dando lugar a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nub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6335640" y="549360"/>
            <a:ext cx="280836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ando las gotas de agua de las nubes se hacen grandes o se congelan,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en en forma de precipitacion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4643280" y="5227560"/>
            <a:ext cx="306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agua de las precipitaciones forma corrientes superficiales que se deslizan hacia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océano o bien se infiltra formando aguas subterráne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23 CuadroTexto"/>
          <p:cNvSpPr/>
          <p:nvPr/>
        </p:nvSpPr>
        <p:spPr>
          <a:xfrm>
            <a:off x="539640" y="1628640"/>
            <a:ext cx="360360" cy="3682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24 CuadroTexto"/>
          <p:cNvSpPr/>
          <p:nvPr/>
        </p:nvSpPr>
        <p:spPr>
          <a:xfrm>
            <a:off x="3419640" y="1413000"/>
            <a:ext cx="360360" cy="3682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25 CuadroTexto"/>
          <p:cNvSpPr/>
          <p:nvPr/>
        </p:nvSpPr>
        <p:spPr>
          <a:xfrm>
            <a:off x="5940360" y="620640"/>
            <a:ext cx="360360" cy="3682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26 CuadroTexto"/>
          <p:cNvSpPr/>
          <p:nvPr/>
        </p:nvSpPr>
        <p:spPr>
          <a:xfrm>
            <a:off x="4211640" y="5516640"/>
            <a:ext cx="360360" cy="3682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1T09:19:50Z</dcterms:modified>
  <cp:revision>47</cp:revision>
  <dc:subject/>
  <dc:title>Diapositiva 1</dc:title>
</cp:coreProperties>
</file>